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BEE93-3034-41DB-81E7-B78A3FAF94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ve this slide up while you answer any questions (or until next speaker starts his/her talk) so people can copy down the UR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9CB2-0B23-422A-9E77-0AD7E7126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5845-53FA-46D0-AD48-6FB783435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61BE-4075-4536-8238-68452AE5C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BFF4-F973-4728-A8CB-7A53FDFA8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E602-C5AB-46E6-96C9-46F85E52E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366A-E2BD-487B-BC66-2C7962A61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3A03-9142-4448-AD55-8898A213B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A8E8-D46B-4423-A032-1A554649B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743B-CFB5-44E8-9146-902F231C8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F01F-B69F-4B33-9F9F-D47437996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CD97-9193-485D-9715-C7FE37FC8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8346-E2E7-4AF2-A30A-7A66FB26E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e7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87B01-B8C2-4FD4-8544-194044921CF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.fruitfly.org/annot/apollo/install.html" TargetMode="External"/><Relationship Id="rId2" Type="http://schemas.openxmlformats.org/officeDocument/2006/relationships/hyperlink" Target="http://ww.fruitfly.org/annot/apollo/install.html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534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ffff"/>
                </a:solidFill>
                <a:latin typeface="Arial"/>
              </a:rPr>
              <a:t>Apollo Future Plans</a:t>
            </a:r>
            <a:br>
              <a:rPr sz="4800"/>
            </a:b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Nomi Harris, BDGP/FlyBase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14040" y="5638320"/>
            <a:ext cx="74674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MOD Meeting, Cambrid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pril 27, 200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295280" y="2286000"/>
            <a:ext cx="67183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More new view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ptide view (similar to Exon Detail Editor--would let you annotate cleavage sites, disulfide bonds, et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her view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e7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ll us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e7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pportunities for collabo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429000" y="2514600"/>
            <a:ext cx="5486400" cy="33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Support for fragmentary genomes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y genomes now being sequenced to low cove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 support for viewing partial genomic assembli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Webstar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nt to be able to click on a Web link (e.g. for a transposable element) and have it launch Apollo on appropriate reg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rrent webstart progres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e7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unch empty Apollo (platform-independen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e7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unch Apollo on specific region (but only with certain browsers on Linu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ed platform and browser independ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GAME XML DTD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ME XML is still the most completely supported format in Apoll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pdate GAME XML DTD (be sure to document "magic" properties, e.g. translation exception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quested by groups trying to convert their data to GA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Redesign tier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sual indication of whether a tier is expanded or collaps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er labels/buttons on separate panel that scrolls along with main pan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e7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ttons launch tier/type edi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nsparent tiers that can be dragged around and overla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ther kinds of tiers, e.g. graphs (like GC content or gene densit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Synteny goal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ke Synteny view more robust as an editor (has mostly been tested as a browse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move distinction between single-species Apollo and Synteny vie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e7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ight now, Synteny view assumes two spe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e7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should always be in n-species mode, where sometimes n=1, sometimes n=2, and sometimes n&gt;2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ould be able to read data for different species from different  adap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Synteny navigation from whole-chromosome view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057400" y="1752480"/>
            <a:ext cx="48625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More synteny goal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ow user to navigate between multiple disjoint contigs (e.g. for D. pseudoobscur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d similarity graph to show amount of conservation between spec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e7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ynamic links with response to similarity graph threshold chan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tter ways to present comparative data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The Apollo Te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yBase/Berkele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e7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zanna Lewis, Nomi Harris, Mark Gibson, Sima Mis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st contribu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e7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nger Institut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eve Searle, Michele Clamp, Vivek Iy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e7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HMI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ohn Rich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e7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yBase curat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e7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GI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avid Goodstein (added regexps to Find; read/write JGI relational d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do adap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e7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IGR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onathan Crabtre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533520" y="4419360"/>
            <a:ext cx="86104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staller available at </a:t>
            </a:r>
            <a:r>
              <a:rPr b="0" lang="en-US" sz="3200" spc="-1" strike="noStrike" u="sng">
                <a:solidFill>
                  <a:srgbClr val="66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3200" spc="-1" strike="noStrike" u="sng">
                <a:solidFill>
                  <a:srgbClr val="66ccff"/>
                </a:solidFill>
                <a:uFillTx/>
                <a:latin typeface="Arial"/>
                <a:hlinkClick r:id="rId2"/>
              </a:rPr>
              <a:t>ww.fruitfly.org/annot/apollo/install.htm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de available at SourceForge: 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http://sourceforge.net/projects/gmod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1219320" y="609480"/>
            <a:ext cx="67183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Undo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do/redo individual edi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e7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lete transcript, change 3’ end, add comment,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nsaction recording is first ste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Analysis adapter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wer barrier to importing data into Apoll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t you read raw analysis results (BLAST, sim4, GENSCAN, etc.) and filter appropriately (using integrated BOP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nish debugging raw analysis loader; improve user interface; docu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ow genomic to be subject (not just quer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utomatically figure out coordinate offset of analysis results by doing simple align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Combining data adapters for concurrent loads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 the ability to request data from multiple different sources from a single “Open” reques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.g. read a directory containing various raw analysis results on a sequ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ollo should figure out which type of results each file contains and parse/filter them appropriate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ed to define default filtering parameters for each input typ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yer data from multiple sour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.g. read an XML file and then overlay with a GenBank sequ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hado adapter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apting TIGR’s (JDBC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ke SO-complia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zy/selective loading for improved performance (time &amp; memor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e7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sembl db adapter does t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Fix memory leak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ollo uses a lot of mem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mory leaks needlessly waste mem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uns slowly on smaller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 even freeze up your compu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GenBank reader/writer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st/debug new GenBank rea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able Apollo to write human-readable GenBank format (currently only writes feature tabl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e7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there a table2human converter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tomatically call table2asn (so you can run Sequi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Annotation of new feature type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ke it possible to annotate non-gene features, e.g.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RNAs, peptides, transposable elements, sequence variations, etc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ed Apollo to read SO and use hierarchy of fea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pport the annotation of sequences other than genomic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Possible new editing interfaces needed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quence variation editor to annotate differences between current reference sequence and related sequ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e7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notate SNPs and other allelic differen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liced-together gene vie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e7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duce size of intr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e7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ful for vertebrate geno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RNA vie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8T03:56:12Z</dcterms:created>
  <dc:creator>Nomi Harris</dc:creator>
  <dc:description/>
  <dc:language>en-US</dc:language>
  <cp:lastModifiedBy>Nomi Haris</cp:lastModifiedBy>
  <dcterms:modified xsi:type="dcterms:W3CDTF">2004-04-27T01:49:54Z</dcterms:modified>
  <cp:revision>378</cp:revision>
  <dc:subject/>
  <dc:title>Slide 1</dc:title>
</cp:coreProperties>
</file>